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46C-7CF2-4CFF-BD96-AD79FD7E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DC6-9D5D-41D5-BCD6-17A73B30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DA9-6E18-4713-9E18-666D5B7F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256-C50F-4E18-8246-5743C0AD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C96-607B-48B7-88C0-05EF160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0F4-E667-4A5F-9D8C-747AB75B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BB0-1017-431C-A80B-4FFCDA6B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17E-6F83-4DEC-9AAD-563C8FE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EED-0B0C-467A-BF11-68D1A18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B36-456C-4CEF-BF55-583B113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968-7821-45E5-B3B2-1647C38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6B5-B4F3-4D61-A918-62F2B47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14D0-DF0C-46F9-81E1-A1621DDF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fred Wegener could not explain what caused the continents to move.  It is now believed that   _____ currents inside Earth cause plates to mov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s or stripes of basaltic rock on the seafloor showing alternating magnetic orientation indicate Earth's magnetic field has _____ in th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tudying the ocean floor, scientists found _____  of magne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get farther from a mid-ocean ridge, sea floor rocks become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Animation of divergent plate motion."/>
          <p:cNvPicPr/>
          <p:nvPr/>
        </p:nvPicPr>
        <p:blipFill>
          <a:blip r:embed="rId1"/>
          <a:stretch/>
        </p:blipFill>
        <p:spPr>
          <a:xfrm>
            <a:off x="1066680" y="15228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ion of convergent plate motion."/>
          <p:cNvPicPr/>
          <p:nvPr/>
        </p:nvPicPr>
        <p:blipFill>
          <a:blip r:embed="rId2"/>
          <a:stretch/>
        </p:blipFill>
        <p:spPr>
          <a:xfrm>
            <a:off x="6172200" y="304920"/>
            <a:ext cx="205740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2920" y="2666880"/>
            <a:ext cx="18288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86600" y="152280"/>
            <a:ext cx="1676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 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ttp://www.lowellphysics.org/beta/resources/CH32/S6/c32x32_6.xform_files/nw0739-n.gif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533520"/>
            <a:ext cx="4495680" cy="239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figure above) As you get farther from a mid-ocean ridge, sea floor rocks becom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fred Wegner noticed that the _____, rocks, and mountains matched up across con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_____  _______ are a continuous chain of volcanoes that extends through many of the earth’s oceans where new crust of the Earth i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theories that lead up to plate tectonics are ______ drift and ______ sp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Earth’s magnetic field protects us from the ____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n magma cools at mid-ocean ridges, a mineral called magnetite ______ itself with the earth’s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arry Hess noticed ______ on the sea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ach magnetic ________on the seafloor showed a _______in the earth’s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hese magnetic stripes were strong evidence for seafloor ________ and plate tectonic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93356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107784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3048120"/>
            <a:ext cx="1676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e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5029200"/>
            <a:ext cx="3048120" cy="167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632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 Africa and Mid-ocean ridges are two examples of a _______ plat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_______ zone is the area where the plate sinks back into earth melting as it desc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types of crust are ________ and _______ cr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sland arc like Japan formed by a collision of ocean crust colliding with _____ crust at a convergent plat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malayan Mountains formed from the collision of continental crust colliding with _________ cr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   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Lab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0292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029200"/>
            <a:ext cx="3352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3048120" cy="14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91520" y="5257800"/>
            <a:ext cx="30456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5334120"/>
            <a:ext cx="228600" cy="75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5029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63244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640080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duction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743200"/>
            <a:ext cx="2362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ent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use tw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use tw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5720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ft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0" y="4232160"/>
          <a:ext cx="4267080" cy="262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32160"/>
                    <a:ext cx="426708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__ is located at location A where plates collide and ocean plate sub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ew rock or plate is created at ______ boundaries and plate is destroyed at  _________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t location B, ocean plate is _____ as it subducts and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The subduction of oceanic plate beneath continental plate produ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 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257800"/>
            <a:ext cx="30456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5334120"/>
            <a:ext cx="228600" cy="75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371600"/>
            <a:ext cx="22860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canic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23:31Z</dcterms:created>
  <dc:creator>jfuller</dc:creator>
  <dc:description/>
  <dc:language>en-US</dc:language>
  <cp:lastModifiedBy>jfuller</cp:lastModifiedBy>
  <dcterms:modified xsi:type="dcterms:W3CDTF">2011-10-03T15:23:34Z</dcterms:modified>
  <cp:revision>1</cp:revision>
  <dc:subject/>
  <dc:title>Plate Tectonic Makeup Bellwork</dc:title>
</cp:coreProperties>
</file>